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907-FC2A-42A5-AF52-03E693FC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DA3-1597-4E15-BDF9-C8FAF6D9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32ACB-B7C2-4DC5-B1F8-3AB58A12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48A86-CB3C-49CD-937F-95288C7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C85D1-DD66-4E23-847C-1D3EDFF6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5033B-0B76-42DB-B51E-4F1A64F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7F835-334A-4119-9191-22EEB39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8A035-4147-4511-8029-F2AD984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E6A93-07C7-49CB-8DED-4D2C47FB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16C87-43AE-4517-9794-2FD76D0B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EFC99-E344-4794-AB57-81D07625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922E6-EBBB-4BB5-ACA2-2F181825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F99-5681-4081-A066-5D878C97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37B63-42AD-441F-B89F-F46DCA8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BA552-0C7F-4A3C-B7E2-8D9471F5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810A8-4983-4260-971C-5B8D2EC9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7F0C9-620E-4DB4-950F-B4DD228F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AEDE8-E6FE-45A3-8498-AE9B56E4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B97E8-ACD9-42E4-B516-6B16155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9CDDB-DE54-459B-B20B-C6EA55B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6B9CE-8608-4F12-BA23-7152ABDE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66FEE-D4B3-45F1-9E9B-47EE20D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7E1CF-A514-4547-A0C7-67691F61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175-8F22-4F53-9879-841487CF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D884A-CD08-4229-8E4B-2BC76CDE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6457A-921D-4948-AC7B-BD69F453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F3830-B704-414B-95DF-D35C779E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38500-82FB-46B2-8E2F-B2AEC2EC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5FC0B-573B-4F96-BA83-95D0E4A0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9A851-45D4-4A3D-BCB6-32E9DE5D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AE309-A66E-4FB3-BBC3-85E8B9B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EE099-1EA4-4967-980D-C4BCDE61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917B7-D71C-488E-82CE-91F92DF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60B3D-81E7-4CA8-8693-BC6C85B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1389-D7D6-44A7-85F9-E952762A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02BCD-3B70-4D4A-BEE8-478A520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8D44E-4F5E-49E9-AE17-ED38528C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670F8-CFF5-4CEB-8E68-D9B44DC6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C5129-46B8-497C-9392-FF665AB0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839E6-3C85-4EA9-A9EB-BC199D5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21034-E730-4057-8140-D505443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345FA-4246-4DF5-A3B6-1BDE2B24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81560-D577-4E06-86A1-7322F0C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684BB-1BC7-4F7E-8D50-08572742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50F1C-610D-4B55-B479-5371E77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60FA-D9DF-4510-8881-9629A58A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6649F-FF0F-4E7B-A807-BBD67D0E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BF61E-A4B5-448C-9324-952B2A52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32DE9-FBAE-4FF4-889F-CB1C6783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5A021-12A5-4B8C-A070-47C9C9D5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CC776-DBE4-44D1-9EC0-5872E7A3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6932-054A-46BC-BE45-834724A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D80E-E5F0-4B9F-9977-28579DE9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688-FF2F-4DC4-8D30-ACD4135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E581-080E-4B88-8578-44E6685D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501E-70A9-4F4E-99E9-0E3CF960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A4C-625B-46A6-953F-E1BD89FB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113A-6E08-4DE3-9D34-8C3CB45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B680-3C6D-4D2B-A682-C066039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BB6B-6567-4E03-B201-9568AD92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8563-9D8E-44FB-B153-DFB7E3F7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0D40-CBF2-461C-AB30-B2D6994B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5F23-4B30-4FEB-B762-80240DD7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075B-7EFE-4A6B-B4BF-8F71FB6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E746-ECD2-48D9-9574-CE9490B3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CB71-250B-4328-B34C-CAF67FF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6DF1-1745-441E-B6A1-F3AAB96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603-F36A-478E-9372-FBA17E12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7C02-6280-4333-87AE-F1BFB02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6B99-1738-4365-A944-A8E39DF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55FE-B577-41F5-AD27-F480BDC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054A-AB25-45F3-9F1B-186F09D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ACFE-0FDA-4806-AFBD-9438ECC6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505B-49C2-4664-A56A-48B43C7C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9B7B-7E3F-42CE-A1AC-32CF601D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1041-B310-4469-B849-E15BA5D5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F5BA-6891-46EE-AEFE-80817AE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719F-BEC3-43C5-9B06-5007833A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47A-6A03-4F71-9157-E953FA47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6338-E7F1-4DF4-931E-92D6F32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4D42E-9851-4C0C-896A-55E99D8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C2F1-57B8-4046-90F7-2E7FD22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12C4-A590-435F-A88D-FFFC9F0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37FF-CAD3-483A-9C0B-BE0C01C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5CE2-9D3F-4F03-AF23-443DD10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921D-6747-4097-AD88-D7DBEA98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724F-563F-43FC-801D-9036F80C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DA57-D715-41DD-885F-675C1500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AC92-802B-4427-A2DE-07D6A57C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5977-CEC8-4F69-831E-4780DCE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872F-FC22-4DB7-89FB-7F213155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9BCB-B2D8-4F0A-9211-9EBE63F1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DEC81-3A25-4143-BFBA-BEC57298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A40D-9290-4F36-BDB6-97EB5412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2963-A066-4173-BB77-5BAD6819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70D8-2C03-44EF-9C4B-0D282D1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753B-1734-4DAC-93AF-EC615D2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8D39F-E7E1-41C2-90DD-E1E8CD7C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DA1A-D96C-478B-B688-9DFC7C0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DE40-1501-4784-9F8B-A4381E12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379-F365-4F63-BA8B-619CD46C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DD96C-F62F-43E6-A741-3D235042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2AA2-15BE-479E-AF66-214C1FB2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7A32-5C32-45F0-94F2-DDFC039A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7EC9-6B04-47B0-A821-474C133B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08822-0BF0-44D8-97C7-F37BC4E3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0EFA-C44C-4590-A2AF-4C3B6EC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B75D-1435-46CF-A4CE-1FFFA443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05293-957E-4671-8722-62EADE7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DAAB-6264-4E3F-B916-41EB4D0D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8CDB7-537A-44C1-94B1-DCC8572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698-D9AB-4A55-A560-A1E7C411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8A62B-AA66-4EB8-A18A-30D7B414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21110-DCA4-4860-9E3E-ACBCF6D0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99578-55F3-421E-8B4D-0698BF01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1BA79-E896-41B9-81DE-451E7AE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48D19-C863-4E64-809B-9C4E2A1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CF8FD-8CDD-4F8D-9F08-2664578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F19AD-FDA0-4419-B1E7-A2AAF2A6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52C5-AD15-4AE9-9A5C-AF5D63A6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C6667-0659-4639-AEA0-6D04279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FA19-E96D-486B-BE30-E71AEA3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BF6-C81C-4BBF-B395-F77524B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5E85-6B16-4B40-8A5E-244EB70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9A68-04ED-4F1B-9373-E79FD2C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4D6F-B127-495F-A978-A8A761DA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2DA8-DA81-4193-B15B-4BE866C9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339F-62A6-47D6-AFCA-8B201175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4937D-3E89-48A5-B48E-74F3A1B9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64538-219D-47D4-863C-DDDFDF64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AEF18-4ECC-4786-9E03-789A1E84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270D1-832A-42D4-A7A4-FDA7666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EAB1-3BC8-4987-8E50-22B3212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0B6-B500-40CF-AD3A-52B0DB1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76063-F728-4393-A0A4-48C87939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BE84-7BA7-4E11-9F3D-CCF298A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11AC-D7CE-4C25-BB24-515F738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1AD3F-91BB-460A-8529-92C584D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7092-C4F5-4864-9200-2481FC7C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A2782-7E49-47A1-B888-3B831460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AC5C7-BA8C-409C-9950-318D26C2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3D55D-6AF5-4C53-89B6-4B82B3F3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8F7FF-AABD-404A-AEF5-1C083091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1DF83-ADFE-40FF-8A83-A0FE18C9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1BF2-003D-4F28-BCFC-2DF1F5703E60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Łącznik prosty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rostokąt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rostokąt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rostokąt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rostokąt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317-AE8E-468B-9B6E-B63FF9DCD5F1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9C0-77E9-4E2C-BC05-73E92CFDE65F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rostokąt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rostokąt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rostokąt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Łącznik prosty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D9B-A63C-4291-BFC1-0ECB0A71B16A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rostokąt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rostokąt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rostokąt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Łącznik prosty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66D2-3629-44E5-AD8E-2D82369FE8AF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396-CEC4-4B23-A900-876CFA6F1F43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rostokąt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rostokąt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rostokąt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rostokąt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rostokąt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rostokąt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Łącznik prosty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D33-43AF-4EE0-BC74-AA11A42D9AF2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Łącznik prosty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ACD-DA0D-4E7F-BE13-9A039D6DDD54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Łącznik prosty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rostokąt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rostokąt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rostokąt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rostokąt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rostokąt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Łącznik prosty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rostokąt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ACDD-A073-4094-8380-4A97C4252983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D47-ECF9-4AC0-BFC7-5B46D85F3C8B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rostokąt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rostokąt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21C9-6EAB-43BC-B75D-EBBDCDB31FCA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rostokąt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rostokąt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Łącznik prosty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C54-F1B4-4FFB-A5E3-1FD3696503F4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Arial"/>
                <a:ea typeface="Arial"/>
              </a:rPr>
              <a:t>Znaki bezpieczeństwa</a:t>
            </a:r>
            <a:br>
              <a:rPr sz="4800"/>
            </a:br>
            <a:r>
              <a:rPr b="0" lang="pl-PL" sz="4800" spc="-1" strike="noStrike">
                <a:solidFill>
                  <a:srgbClr val="ff0000"/>
                </a:solidFill>
                <a:latin typeface="Arial"/>
                <a:ea typeface="Arial"/>
              </a:rPr>
              <a:t>BHP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C:\Users\Marzena\AppData\Local\Microsoft\Windows\Temporary Internet Files\Content.IE5\8XW2J9XG\MC900319244[1].wmf"/>
          <p:cNvPicPr/>
          <p:nvPr/>
        </p:nvPicPr>
        <p:blipFill>
          <a:blip r:embed="rId1"/>
          <a:stretch/>
        </p:blipFill>
        <p:spPr>
          <a:xfrm>
            <a:off x="2916360" y="2997360"/>
            <a:ext cx="31305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Znaki, tablice i piktogramy bhp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3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Znaki bezpieczeństwa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 – zestaw symboli dotyczących przestrzegania zasad bezpieczeństw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i higieny stosowany w miejscach użyteczności publicznej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i w zakładach pra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Oznakowanie bezpieczeństwa 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znaki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tablice 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piktogramy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34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Znaki, tablice i piktogramy bhp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Stosuje się na stanowiskach pracy, gdzie występuje zagrożenie dla życia lub zdrowia pracowników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 mają za zadanie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poinformować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o występującym niebezpieczeństw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 mają również za zadanie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zakazać 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pracownikom wykonywania czynności zabronion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 bardzo często spełniają funkcję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ostrzegawczą, 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ostrzegając pracowników przed zagrożeniem np. wysoka temperatura lub inne niebezpieczeństw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  <a:ea typeface="Arial"/>
              </a:rPr>
              <a:t>ZNAKI INFORMACYJ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Plik:E003.svg"/>
          <p:cNvPicPr/>
          <p:nvPr/>
        </p:nvPicPr>
        <p:blipFill>
          <a:blip r:embed="rId1"/>
          <a:stretch/>
        </p:blipFill>
        <p:spPr>
          <a:xfrm>
            <a:off x="611280" y="1989000"/>
            <a:ext cx="2160360" cy="2159280"/>
          </a:xfrm>
          <a:prstGeom prst="rect">
            <a:avLst/>
          </a:prstGeom>
          <a:ln w="0">
            <a:noFill/>
          </a:ln>
        </p:spPr>
      </p:pic>
      <p:sp>
        <p:nvSpPr>
          <p:cNvPr id="614" name="Prostokąt 3"/>
          <p:cNvSpPr/>
          <p:nvPr/>
        </p:nvSpPr>
        <p:spPr>
          <a:xfrm>
            <a:off x="32400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ierwsza pomoc medyczn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Plik:E005.svg"/>
          <p:cNvPicPr/>
          <p:nvPr/>
        </p:nvPicPr>
        <p:blipFill>
          <a:blip r:embed="rId2"/>
          <a:stretch/>
        </p:blipFill>
        <p:spPr>
          <a:xfrm>
            <a:off x="6588000" y="2205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616" name="Prostokąt 5"/>
          <p:cNvSpPr/>
          <p:nvPr/>
        </p:nvSpPr>
        <p:spPr>
          <a:xfrm>
            <a:off x="6531480" y="436572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ysznic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ezpieczeństw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Plik:PN Telefon awaryjny.svg"/>
          <p:cNvPicPr/>
          <p:nvPr/>
        </p:nvPicPr>
        <p:blipFill>
          <a:blip r:embed="rId3"/>
          <a:stretch/>
        </p:blipFill>
        <p:spPr>
          <a:xfrm>
            <a:off x="3635280" y="2781360"/>
            <a:ext cx="2160720" cy="2158920"/>
          </a:xfrm>
          <a:prstGeom prst="rect">
            <a:avLst/>
          </a:prstGeom>
          <a:ln w="0">
            <a:noFill/>
          </a:ln>
        </p:spPr>
      </p:pic>
      <p:sp>
        <p:nvSpPr>
          <p:cNvPr id="618" name="Prostokąt 7"/>
          <p:cNvSpPr/>
          <p:nvPr/>
        </p:nvSpPr>
        <p:spPr>
          <a:xfrm>
            <a:off x="3491280" y="52293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elefon awaryj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 PRZECIWPOŻAROW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2" descr="Extincteur.svg"/>
          <p:cNvPicPr/>
          <p:nvPr/>
        </p:nvPicPr>
        <p:blipFill>
          <a:blip r:embed="rId1"/>
          <a:stretch/>
        </p:blipFill>
        <p:spPr>
          <a:xfrm>
            <a:off x="684360" y="198900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F003.svg"/>
          <p:cNvPicPr/>
          <p:nvPr/>
        </p:nvPicPr>
        <p:blipFill>
          <a:blip r:embed="rId2"/>
          <a:stretch/>
        </p:blipFill>
        <p:spPr>
          <a:xfrm>
            <a:off x="6443640" y="198900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622" name="pole tekstowe 5"/>
          <p:cNvSpPr/>
          <p:nvPr/>
        </p:nvSpPr>
        <p:spPr>
          <a:xfrm>
            <a:off x="611280" y="429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Gaśn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ole tekstowe 7"/>
          <p:cNvSpPr/>
          <p:nvPr/>
        </p:nvSpPr>
        <p:spPr>
          <a:xfrm>
            <a:off x="5975280" y="43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Hydrant wewnętrz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6" descr="Plik:D-P001 Rauchen verboten.svg"/>
          <p:cNvPicPr/>
          <p:nvPr/>
        </p:nvPicPr>
        <p:blipFill>
          <a:blip r:embed="rId3"/>
          <a:stretch/>
        </p:blipFill>
        <p:spPr>
          <a:xfrm>
            <a:off x="3492360" y="2997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25" name="Prostokąt 9"/>
          <p:cNvSpPr/>
          <p:nvPr/>
        </p:nvSpPr>
        <p:spPr>
          <a:xfrm>
            <a:off x="2652120" y="522936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alenie tytoniu zabronio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OSTRZEGAWCZ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Prostokąt 4"/>
          <p:cNvSpPr/>
          <p:nvPr/>
        </p:nvSpPr>
        <p:spPr>
          <a:xfrm>
            <a:off x="0" y="39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d porażeniem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em elektryczny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4" descr="Plik:D-W028 Warnung vor Rutschgefahr.svg"/>
          <p:cNvPicPr/>
          <p:nvPr/>
        </p:nvPicPr>
        <p:blipFill>
          <a:blip r:embed="rId1"/>
          <a:stretch/>
        </p:blipFill>
        <p:spPr>
          <a:xfrm>
            <a:off x="6227640" y="1557360"/>
            <a:ext cx="2460600" cy="21589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Plik:DIN 4844-2 Warnung vor gef el Spannung D-W008.svg"/>
          <p:cNvPicPr/>
          <p:nvPr/>
        </p:nvPicPr>
        <p:blipFill>
          <a:blip r:embed="rId2"/>
          <a:stretch/>
        </p:blipFill>
        <p:spPr>
          <a:xfrm>
            <a:off x="611280" y="1557360"/>
            <a:ext cx="2463840" cy="2158920"/>
          </a:xfrm>
          <a:prstGeom prst="rect">
            <a:avLst/>
          </a:prstGeom>
          <a:ln w="0">
            <a:noFill/>
          </a:ln>
        </p:spPr>
      </p:pic>
      <p:sp>
        <p:nvSpPr>
          <p:cNvPr id="630" name="Prostokąt 7"/>
          <p:cNvSpPr/>
          <p:nvPr/>
        </p:nvSpPr>
        <p:spPr>
          <a:xfrm>
            <a:off x="6372360" y="39337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d śliską nawierzchni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8" descr="Plik:D-W003 Warnung vor giftigen Stoffen ty.svg"/>
          <p:cNvPicPr/>
          <p:nvPr/>
        </p:nvPicPr>
        <p:blipFill>
          <a:blip r:embed="rId3"/>
          <a:stretch/>
        </p:blipFill>
        <p:spPr>
          <a:xfrm>
            <a:off x="3635280" y="3141720"/>
            <a:ext cx="2460600" cy="2158920"/>
          </a:xfrm>
          <a:prstGeom prst="rect">
            <a:avLst/>
          </a:prstGeom>
          <a:ln w="0">
            <a:noFill/>
          </a:ln>
        </p:spPr>
      </p:pic>
      <p:sp>
        <p:nvSpPr>
          <p:cNvPr id="632" name="Prostokąt 9"/>
          <p:cNvSpPr/>
          <p:nvPr/>
        </p:nvSpPr>
        <p:spPr>
          <a:xfrm>
            <a:off x="2050920" y="544500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przed niebezpieczeństwem zatrucia substancjami toksycznym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ZAKAZ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Plik:D-P003 Fuer Fussgaenger verboten.svg"/>
          <p:cNvPicPr/>
          <p:nvPr/>
        </p:nvPicPr>
        <p:blipFill>
          <a:blip r:embed="rId1"/>
          <a:stretch/>
        </p:blipFill>
        <p:spPr>
          <a:xfrm>
            <a:off x="900000" y="1773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35" name="Prostokąt 4"/>
          <p:cNvSpPr/>
          <p:nvPr/>
        </p:nvSpPr>
        <p:spPr>
          <a:xfrm>
            <a:off x="698040" y="407664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kaz przejś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4" descr="Plik:D-P014 Mitfuehren von Tieren verboten.svg"/>
          <p:cNvPicPr/>
          <p:nvPr/>
        </p:nvPicPr>
        <p:blipFill>
          <a:blip r:embed="rId2"/>
          <a:stretch/>
        </p:blipFill>
        <p:spPr>
          <a:xfrm>
            <a:off x="6372360" y="191628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637" name="Prostokąt 6"/>
          <p:cNvSpPr/>
          <p:nvPr/>
        </p:nvSpPr>
        <p:spPr>
          <a:xfrm>
            <a:off x="6313680" y="4149720"/>
            <a:ext cx="22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kaz wstęp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e zwierzętam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6" descr="Plik:D-P006 Zutritt fuer Unbefugte verboten.svg"/>
          <p:cNvPicPr/>
          <p:nvPr/>
        </p:nvPicPr>
        <p:blipFill>
          <a:blip r:embed="rId3"/>
          <a:stretch/>
        </p:blipFill>
        <p:spPr>
          <a:xfrm>
            <a:off x="3635280" y="3284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639" name="Prostokąt 8"/>
          <p:cNvSpPr/>
          <p:nvPr/>
        </p:nvSpPr>
        <p:spPr>
          <a:xfrm>
            <a:off x="2444760" y="54450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ieupoważnionym wstęp wzbronio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 NAKAZ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rostokąt 4"/>
          <p:cNvSpPr/>
          <p:nvPr/>
        </p:nvSpPr>
        <p:spPr>
          <a:xfrm>
            <a:off x="21960" y="3933720"/>
            <a:ext cx="36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przechodze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oznakowanym miejsc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rostokąt 6"/>
          <p:cNvSpPr/>
          <p:nvPr/>
        </p:nvSpPr>
        <p:spPr>
          <a:xfrm>
            <a:off x="6245280" y="400536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stosowa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chrony głow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rostokąt 8"/>
          <p:cNvSpPr/>
          <p:nvPr/>
        </p:nvSpPr>
        <p:spPr>
          <a:xfrm>
            <a:off x="2725560" y="58053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stosowania ochrony rą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Plik:D-M010 Fuer Fussgaenger.svg"/>
          <p:cNvPicPr/>
          <p:nvPr/>
        </p:nvPicPr>
        <p:blipFill>
          <a:blip r:embed="rId1"/>
          <a:stretch/>
        </p:blipFill>
        <p:spPr>
          <a:xfrm>
            <a:off x="826920" y="170028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Plik:D-M002 Kopfschutz benutzen.svg"/>
          <p:cNvPicPr/>
          <p:nvPr/>
        </p:nvPicPr>
        <p:blipFill>
          <a:blip r:embed="rId2"/>
          <a:stretch/>
        </p:blipFill>
        <p:spPr>
          <a:xfrm>
            <a:off x="6443640" y="1484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Plik:D-M006 Handschutz benutzen.svg"/>
          <p:cNvPicPr/>
          <p:nvPr/>
        </p:nvPicPr>
        <p:blipFill>
          <a:blip r:embed="rId3"/>
          <a:stretch/>
        </p:blipFill>
        <p:spPr>
          <a:xfrm>
            <a:off x="3780000" y="3716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6:34:49Z</dcterms:created>
  <dc:creator>Krzysztof</dc:creator>
  <dc:description/>
  <dc:language>en-US</dc:language>
  <cp:lastModifiedBy>Marzena</cp:lastModifiedBy>
  <dcterms:modified xsi:type="dcterms:W3CDTF">2013-08-07T16:17:19Z</dcterms:modified>
  <cp:revision>8</cp:revision>
  <dc:subject/>
  <dc:title>Znaki informacyjne</dc:title>
</cp:coreProperties>
</file>